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AB64-E82E-44FD-B085-FC1D3B65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89880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EA4-53BA-4B89-8E8B-C8D29E22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220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B2E-CDA3-4CAD-AED6-3DF9520D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616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724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616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724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D21-E622-43B5-95C8-1E913CFD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2452-AC3C-46BF-A701-CF551B62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1AB1-C6E3-4A70-B6A1-B2F88D0F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BD46-E469-49A0-9879-208EE531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2D83-4FE4-4C18-8898-EC107021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F7F6-829F-49A8-809F-E8AE905C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BDE5-189D-414C-A4A6-CBBA9B90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306B-F00F-4B1F-B1DA-85F2AE39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92A-2DE8-497D-A53C-3FF9CC66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220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F951-25EA-4A9A-9970-81E4CCBA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ADDF-EF2B-4EED-9445-DFF29F9A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89880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4F94-87AD-4DB2-8F20-6F55A91C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220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28E9-6779-499D-B1CF-9A00555B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616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0724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616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0724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890C-5E8A-4A21-A672-C88945AC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DFC8-A79F-406A-A9D6-F56E35E2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C985-03DB-4CCF-B09C-1ADD3EF4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15A-395D-4710-9E66-D36E4D6C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50FF-EE76-452F-84C3-70EA3D25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A77-69B4-4CB5-ABB6-5D516E3C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220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06F-C83E-47C2-927C-4092B566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EDD-25B7-4227-90AC-4BDBE5A6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A57F-C604-4B77-9BED-BDBFB0EAA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11360" y="1257480"/>
            <a:ext cx="777240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0089-F6C0-4AC1-9EC6-56227B7F1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33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520" y="2285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Front-end electronics developments for OPERA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C. de LA TAILLE, G. MARTIN-CHASSARD, L. RAU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LAL Ors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T.D. LE, P. SCHMIT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IRES Strasbou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:/www.lal.in2p3.fr/technique/se/oper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20356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3876840" cy="3352680"/>
          </a:xfrm>
          <a:prstGeom prst="rect">
            <a:avLst/>
          </a:prstGeom>
          <a:ln w="0">
            <a:noFill/>
          </a:ln>
        </p:spPr>
      </p:pic>
      <p:pic>
        <p:nvPicPr>
          <p:cNvPr id="804" name="NOISE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4095720" cy="3344760"/>
          </a:xfrm>
          <a:prstGeom prst="rect">
            <a:avLst/>
          </a:prstGeom>
          <a:ln w="0">
            <a:noFill/>
          </a:ln>
        </p:spPr>
      </p:pic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ise measurements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PD preamp (2000/0.8 PMO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.5 mA, 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7.1 mA/V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= 1.7 nV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√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Hz</a:t>
            </a:r>
            <a:r>
              <a:rPr b="1" lang="en-US" sz="1600" spc="-1" strike="noStrike">
                <a:solidFill>
                  <a:srgbClr val="ff00ff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 = 8 pF,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ENC(75ns,6pF)=550 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ificant gate resistance 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~ 8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. and substrate resistance nois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LAS 10 000/0.8 AMS PMOS transistor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.5 mA, 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8 mA/V, 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 = 1.0 nV/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√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Hz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= 21 p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um gate resistance 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~ 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and substrate resistance nois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6766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503080" y="320040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PD pre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70560" y="320040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10000/0.8 P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508-70DF-4843-9FE7-BC5B840CE6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ise improvement 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w layout for ~50% noise improv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ze : 2000/0.8 similar transconductance (7 mA/V) with smaller capacitance  (8 p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t geometry to 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minimize gate resista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: 8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Bias substr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ositively  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+2V) to mimimize substrate nois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:  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 = 1.0 nV/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√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Hz, C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 = 8 p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t 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.5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893920" y="4570560"/>
            <a:ext cx="274536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design : 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6 p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 = 550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@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75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 = 300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@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0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Goal :   (with C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= 6 p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ENC = 300 e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@ t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= 75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ENC = 150 e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@ t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= 50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1"/>
          <a:stretch/>
        </p:blipFill>
        <p:spPr>
          <a:xfrm>
            <a:off x="762120" y="2870280"/>
            <a:ext cx="4419360" cy="345420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 flipH="1" flipV="1">
            <a:off x="3047760" y="4876560"/>
            <a:ext cx="2819160" cy="990360"/>
          </a:xfrm>
          <a:prstGeom prst="line">
            <a:avLst/>
          </a:prstGeom>
          <a:ln cap="sq"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4419360" y="5486040"/>
            <a:ext cx="1447560" cy="609480"/>
          </a:xfrm>
          <a:prstGeom prst="line">
            <a:avLst/>
          </a:prstGeom>
          <a:ln cap="sq"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414040" y="2805120"/>
            <a:ext cx="28656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pacitance breakdow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OS : 2.5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put pads : 0.8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n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: 0.5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age : 1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CB : 2.4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819520" y="4267080"/>
            <a:ext cx="75960" cy="76320"/>
          </a:xfrm>
          <a:prstGeom prst="ellipse">
            <a:avLst/>
          </a:prstGeom>
          <a:solidFill>
            <a:srgbClr val="ff99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267080" y="4876920"/>
            <a:ext cx="76320" cy="75960"/>
          </a:xfrm>
          <a:prstGeom prst="ellipse">
            <a:avLst/>
          </a:prstGeom>
          <a:solidFill>
            <a:srgbClr val="ff99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819520" y="4876920"/>
            <a:ext cx="75960" cy="75960"/>
          </a:xfrm>
          <a:prstGeom prst="ellipse">
            <a:avLst/>
          </a:prstGeom>
          <a:solidFill>
            <a:srgbClr val="ff99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267080" y="5334120"/>
            <a:ext cx="76320" cy="75960"/>
          </a:xfrm>
          <a:prstGeom prst="ellipse">
            <a:avLst/>
          </a:prstGeom>
          <a:solidFill>
            <a:srgbClr val="ff99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4419720" y="4952520"/>
            <a:ext cx="137160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2971440" y="4343040"/>
            <a:ext cx="2895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786-9CAA-4879-9604-53EAF334B7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easurement results (II) 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ow sh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500 ns  G = 2.7 mV/photoelec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ity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0.5 % up to 300 photoelectr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 sh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pling with preamp inputs -&gt; oscil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ld only be measur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1" name="SIGSLOWN" descr=""/>
          <p:cNvPicPr/>
          <p:nvPr/>
        </p:nvPicPr>
        <p:blipFill>
          <a:blip r:embed="rId1"/>
          <a:stretch/>
        </p:blipFill>
        <p:spPr>
          <a:xfrm>
            <a:off x="4800600" y="131436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SIGFASTN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RESSLOWL" descr=""/>
          <p:cNvPicPr/>
          <p:nvPr/>
        </p:nvPicPr>
        <p:blipFill>
          <a:blip r:embed="rId3"/>
          <a:stretch/>
        </p:blipFill>
        <p:spPr>
          <a:xfrm>
            <a:off x="838080" y="22860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1322640" y="4311720"/>
            <a:ext cx="308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Slow shaper : Residuals of linear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981800" y="36576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± 0.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95280" y="2590920"/>
            <a:ext cx="266724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295280" y="3733920"/>
            <a:ext cx="266724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757480" y="327672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low shaper Qin=10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520680" y="49528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ast shaper Qin=10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528-27D0-4414-8131-8BB00E54A9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easurement results (III)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ck and ho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channels fun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destal variation : ~ 100 mV : to be impr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 multiplexer :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crimina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 offset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yet 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001-DF7F-4015-8DA5-F06C9F70DB0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nclusion 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MT ch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th designs fully fun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er noise with common base but more robust design with current mi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noise (~ 0.01 p.e.), linearity 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% up to ~ 100 photoelectr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trigger output (12 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PD c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ly partially functional (oscillations in fast shap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ise : 550e- = 0.2 p.e. at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75 ns,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6pF ; 300e- at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500 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amp noise can be decreased by 50%, down to 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1.0 nV/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√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H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or 300 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t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75 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 with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0.5% up to ~ 300 photoelectr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y for one it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detector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ll scale prototyp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669-D2C2-4161-B6D4-E387B315E4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ariable gain preamp for PMT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on base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Fast current integr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: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(1+ s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 input impedance (1/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25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-&gt; 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crosstalk re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in variation by changing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rom10 pF to 45 pF (3 bits) -&gt; can easily be exten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ay time kept constant 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200 ns) by also switching resis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35320" y="2970720"/>
            <a:ext cx="6246000" cy="3043800"/>
            <a:chOff x="535320" y="2970720"/>
            <a:chExt cx="6246000" cy="3043800"/>
          </a:xfrm>
        </p:grpSpPr>
        <p:sp>
          <p:nvSpPr>
            <p:cNvPr id="90" name=""/>
            <p:cNvSpPr/>
            <p:nvPr/>
          </p:nvSpPr>
          <p:spPr>
            <a:xfrm flipH="1">
              <a:off x="2837880" y="4338720"/>
              <a:ext cx="283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3906360" y="5509800"/>
              <a:ext cx="284400" cy="188280"/>
              <a:chOff x="3906360" y="5509800"/>
              <a:chExt cx="284400" cy="188280"/>
            </a:xfrm>
          </p:grpSpPr>
          <p:sp>
            <p:nvSpPr>
              <p:cNvPr id="92" name=""/>
              <p:cNvSpPr/>
              <p:nvPr/>
            </p:nvSpPr>
            <p:spPr>
              <a:xfrm>
                <a:off x="3962880" y="5603400"/>
                <a:ext cx="22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39063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40197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413352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4075200" y="550980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581360" y="5509800"/>
              <a:ext cx="284400" cy="188280"/>
              <a:chOff x="4581360" y="5509800"/>
              <a:chExt cx="284400" cy="188280"/>
            </a:xfrm>
          </p:grpSpPr>
          <p:sp>
            <p:nvSpPr>
              <p:cNvPr id="98" name=""/>
              <p:cNvSpPr/>
              <p:nvPr/>
            </p:nvSpPr>
            <p:spPr>
              <a:xfrm>
                <a:off x="4637880" y="5603400"/>
                <a:ext cx="22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45813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46947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480852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4750200" y="550980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256360" y="5509800"/>
              <a:ext cx="284400" cy="188280"/>
              <a:chOff x="5256360" y="5509800"/>
              <a:chExt cx="284400" cy="188280"/>
            </a:xfrm>
          </p:grpSpPr>
          <p:sp>
            <p:nvSpPr>
              <p:cNvPr id="104" name=""/>
              <p:cNvSpPr/>
              <p:nvPr/>
            </p:nvSpPr>
            <p:spPr>
              <a:xfrm>
                <a:off x="5312880" y="5603400"/>
                <a:ext cx="22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52563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53697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48352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5425200" y="550980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499840" y="5181120"/>
              <a:ext cx="284040" cy="188280"/>
              <a:chOff x="2499840" y="5181120"/>
              <a:chExt cx="284040" cy="188280"/>
            </a:xfrm>
          </p:grpSpPr>
          <p:sp>
            <p:nvSpPr>
              <p:cNvPr id="110" name=""/>
              <p:cNvSpPr/>
              <p:nvPr/>
            </p:nvSpPr>
            <p:spPr>
              <a:xfrm>
                <a:off x="2556000" y="5274720"/>
                <a:ext cx="22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2499840" y="527472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613240" y="527472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2726640" y="527472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668680" y="518112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500200" y="4338360"/>
              <a:ext cx="337320" cy="234000"/>
              <a:chOff x="2500200" y="4338360"/>
              <a:chExt cx="337320" cy="234000"/>
            </a:xfrm>
          </p:grpSpPr>
          <p:sp>
            <p:nvSpPr>
              <p:cNvPr id="116" name=""/>
              <p:cNvSpPr/>
              <p:nvPr/>
            </p:nvSpPr>
            <p:spPr>
              <a:xfrm flipH="1" flipV="1">
                <a:off x="2500200" y="4338360"/>
                <a:ext cx="11232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724840" y="4338360"/>
                <a:ext cx="11232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500200" y="4478760"/>
                <a:ext cx="337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68680" y="447876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V="1">
              <a:off x="3175560" y="4151520"/>
              <a:ext cx="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75200" y="4151520"/>
              <a:ext cx="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750560" y="4151520"/>
              <a:ext cx="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425560" y="4151520"/>
              <a:ext cx="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62880" y="49946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669040" y="4572720"/>
              <a:ext cx="0" cy="60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075200" y="532260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750560" y="532260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425560" y="532260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075200" y="36831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750560" y="48074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425560" y="48074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175560" y="3261240"/>
              <a:ext cx="0" cy="42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262160" y="5181840"/>
              <a:ext cx="284400" cy="188280"/>
              <a:chOff x="1262160" y="5181840"/>
              <a:chExt cx="284400" cy="188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318320" y="5275440"/>
                <a:ext cx="2250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1262160" y="5275440"/>
                <a:ext cx="57240" cy="9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375560" y="5275440"/>
                <a:ext cx="57240" cy="9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1489320" y="5275440"/>
                <a:ext cx="57240" cy="9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1431360" y="5181840"/>
                <a:ext cx="0" cy="93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868320" y="5181840"/>
              <a:ext cx="284400" cy="187920"/>
              <a:chOff x="868320" y="5181840"/>
              <a:chExt cx="284400" cy="187920"/>
            </a:xfrm>
          </p:grpSpPr>
          <p:sp>
            <p:nvSpPr>
              <p:cNvPr id="140" name=""/>
              <p:cNvSpPr/>
              <p:nvPr/>
            </p:nvSpPr>
            <p:spPr>
              <a:xfrm flipH="1">
                <a:off x="868320" y="5275440"/>
                <a:ext cx="57240" cy="94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981720" y="5275440"/>
                <a:ext cx="57240" cy="94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1095480" y="5275440"/>
                <a:ext cx="57240" cy="94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24840" y="5275440"/>
                <a:ext cx="2250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1037160" y="5181840"/>
                <a:ext cx="0" cy="93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V="1">
              <a:off x="1431360" y="4901040"/>
              <a:ext cx="0" cy="280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937520" y="4338720"/>
              <a:ext cx="56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162880" y="433872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431360" y="4338360"/>
              <a:ext cx="0" cy="32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37520" y="4338720"/>
              <a:ext cx="863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75560" y="4807440"/>
              <a:ext cx="0" cy="107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75560" y="5884560"/>
              <a:ext cx="24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70720" y="4338720"/>
              <a:ext cx="44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50560" y="5884560"/>
              <a:ext cx="44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47120" y="4315680"/>
              <a:ext cx="5616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03280" y="4315680"/>
              <a:ext cx="56160" cy="4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34440" y="4315680"/>
              <a:ext cx="5616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22480" y="4315680"/>
              <a:ext cx="5580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97480" y="4315680"/>
              <a:ext cx="5580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47480" y="4315680"/>
              <a:ext cx="5580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948760" y="2971080"/>
              <a:ext cx="455040" cy="290520"/>
              <a:chOff x="2948760" y="2971080"/>
              <a:chExt cx="455040" cy="29052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062160" y="3168000"/>
                <a:ext cx="225000" cy="93600"/>
                <a:chOff x="3062160" y="3168000"/>
                <a:chExt cx="225000" cy="936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175200" y="31680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3062160" y="316800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2948760" y="297108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162880" y="518184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049840" y="5275800"/>
              <a:ext cx="22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31760" y="522216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318680" y="4636440"/>
              <a:ext cx="660960" cy="280440"/>
              <a:chOff x="1318680" y="4636440"/>
              <a:chExt cx="660960" cy="2804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318680" y="4636440"/>
                <a:ext cx="224640" cy="280440"/>
                <a:chOff x="1318680" y="4636440"/>
                <a:chExt cx="224640" cy="2804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318680" y="4823640"/>
                  <a:ext cx="22464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318680" y="4729680"/>
                  <a:ext cx="22464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430640" y="4823640"/>
                  <a:ext cx="0" cy="93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430640" y="4636440"/>
                  <a:ext cx="0" cy="93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1413360" y="463932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C 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535320" y="4573080"/>
              <a:ext cx="586080" cy="421200"/>
              <a:chOff x="535320" y="4573080"/>
              <a:chExt cx="586080" cy="42120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952920" y="4573080"/>
                <a:ext cx="168480" cy="421200"/>
                <a:chOff x="952920" y="4573080"/>
                <a:chExt cx="168480" cy="42120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952920" y="4666680"/>
                  <a:ext cx="168480" cy="234000"/>
                  <a:chOff x="952920" y="4666680"/>
                  <a:chExt cx="168480" cy="23400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952920" y="4760280"/>
                    <a:ext cx="168480" cy="140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952920" y="4666680"/>
                    <a:ext cx="168480" cy="140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 flipV="1">
                  <a:off x="1037160" y="4900680"/>
                  <a:ext cx="0" cy="936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1037160" y="4573080"/>
                  <a:ext cx="0" cy="936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 flipV="1">
                <a:off x="868320" y="4596120"/>
                <a:ext cx="0" cy="374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5320" y="4645080"/>
                <a:ext cx="406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I 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612960" y="3355200"/>
              <a:ext cx="529560" cy="327960"/>
              <a:chOff x="3612960" y="3355200"/>
              <a:chExt cx="529560" cy="32796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4018320" y="3355200"/>
                <a:ext cx="56160" cy="327960"/>
                <a:chOff x="4018320" y="3355200"/>
                <a:chExt cx="56160" cy="327960"/>
              </a:xfrm>
            </p:grpSpPr>
            <p:sp>
              <p:nvSpPr>
                <p:cNvPr id="186" name=""/>
                <p:cNvSpPr/>
                <p:nvPr/>
              </p:nvSpPr>
              <p:spPr>
                <a:xfrm flipH="1" flipV="1">
                  <a:off x="4018320" y="344880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074480" y="358956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4074480" y="33552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612960" y="339624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R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288320" y="3355200"/>
              <a:ext cx="529560" cy="327960"/>
              <a:chOff x="4288320" y="3355200"/>
              <a:chExt cx="529560" cy="32796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4693680" y="3355200"/>
                <a:ext cx="56160" cy="327960"/>
                <a:chOff x="4693680" y="3355200"/>
                <a:chExt cx="56160" cy="327960"/>
              </a:xfrm>
            </p:grpSpPr>
            <p:sp>
              <p:nvSpPr>
                <p:cNvPr id="192" name=""/>
                <p:cNvSpPr/>
                <p:nvPr/>
              </p:nvSpPr>
              <p:spPr>
                <a:xfrm flipH="1" flipV="1">
                  <a:off x="4693680" y="344880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749840" y="358956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4749840" y="33552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4288320" y="339624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R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964400" y="3355200"/>
              <a:ext cx="529560" cy="327960"/>
              <a:chOff x="4964400" y="3355200"/>
              <a:chExt cx="529560" cy="32796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368680" y="3355200"/>
                <a:ext cx="56160" cy="327960"/>
                <a:chOff x="5368680" y="3355200"/>
                <a:chExt cx="56160" cy="327960"/>
              </a:xfrm>
            </p:grpSpPr>
            <p:sp>
              <p:nvSpPr>
                <p:cNvPr id="198" name=""/>
                <p:cNvSpPr/>
                <p:nvPr/>
              </p:nvSpPr>
              <p:spPr>
                <a:xfrm flipH="1" flipV="1">
                  <a:off x="5368680" y="344880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24840" y="358956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24840" y="33552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4964400" y="339624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R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4964400" y="4994640"/>
              <a:ext cx="529560" cy="327600"/>
              <a:chOff x="4964400" y="4994640"/>
              <a:chExt cx="529560" cy="32760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5368680" y="4994640"/>
                <a:ext cx="56160" cy="327600"/>
                <a:chOff x="5368680" y="4994640"/>
                <a:chExt cx="56160" cy="327600"/>
              </a:xfrm>
            </p:grpSpPr>
            <p:sp>
              <p:nvSpPr>
                <p:cNvPr id="204" name=""/>
                <p:cNvSpPr/>
                <p:nvPr/>
              </p:nvSpPr>
              <p:spPr>
                <a:xfrm flipH="1" flipV="1">
                  <a:off x="5368680" y="508824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424840" y="5228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424840" y="4994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4964400" y="503640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C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3612960" y="4994640"/>
              <a:ext cx="529560" cy="327600"/>
              <a:chOff x="3612960" y="4994640"/>
              <a:chExt cx="529560" cy="32760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4018320" y="4994640"/>
                <a:ext cx="56160" cy="327600"/>
                <a:chOff x="4018320" y="4994640"/>
                <a:chExt cx="56160" cy="327600"/>
              </a:xfrm>
            </p:grpSpPr>
            <p:sp>
              <p:nvSpPr>
                <p:cNvPr id="210" name=""/>
                <p:cNvSpPr/>
                <p:nvPr/>
              </p:nvSpPr>
              <p:spPr>
                <a:xfrm flipH="1" flipV="1">
                  <a:off x="4018320" y="508824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74480" y="5228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4074480" y="4994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3612960" y="503640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C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4288320" y="4994640"/>
              <a:ext cx="529560" cy="327600"/>
              <a:chOff x="4288320" y="4994640"/>
              <a:chExt cx="529560" cy="3276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693680" y="4994640"/>
                <a:ext cx="56160" cy="327600"/>
                <a:chOff x="4693680" y="4994640"/>
                <a:chExt cx="56160" cy="327600"/>
              </a:xfrm>
            </p:grpSpPr>
            <p:sp>
              <p:nvSpPr>
                <p:cNvPr id="216" name=""/>
                <p:cNvSpPr/>
                <p:nvPr/>
              </p:nvSpPr>
              <p:spPr>
                <a:xfrm flipH="1" flipV="1">
                  <a:off x="4693680" y="508824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749840" y="5228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>
                  <a:off x="4749840" y="4994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4288320" y="503640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C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3062520" y="4526280"/>
              <a:ext cx="499680" cy="280440"/>
              <a:chOff x="3062520" y="4526280"/>
              <a:chExt cx="499680" cy="2804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3062520" y="4526280"/>
                <a:ext cx="225000" cy="280440"/>
                <a:chOff x="3062520" y="4526280"/>
                <a:chExt cx="225000" cy="2804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062520" y="471348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062520" y="461952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174840" y="47134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174840" y="45262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183480" y="454392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3962880" y="4526280"/>
              <a:ext cx="499680" cy="280440"/>
              <a:chOff x="3962880" y="4526280"/>
              <a:chExt cx="499680" cy="28044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3962880" y="4526280"/>
                <a:ext cx="225000" cy="280440"/>
                <a:chOff x="3962880" y="4526280"/>
                <a:chExt cx="225000" cy="2804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962880" y="471348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962880" y="461952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075200" y="47134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075200" y="45262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4083840" y="454392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637880" y="4526280"/>
              <a:ext cx="443880" cy="280440"/>
              <a:chOff x="4637880" y="4526280"/>
              <a:chExt cx="443880" cy="28044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4637880" y="4526280"/>
                <a:ext cx="225000" cy="280440"/>
                <a:chOff x="4637880" y="4526280"/>
                <a:chExt cx="225000" cy="2804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4637880" y="471348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637880" y="461952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750200" y="47134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750200" y="45262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4766760" y="4543920"/>
                <a:ext cx="31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5313240" y="4526280"/>
              <a:ext cx="499320" cy="280440"/>
              <a:chOff x="5313240" y="4526280"/>
              <a:chExt cx="499320" cy="280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5313240" y="4526280"/>
                <a:ext cx="225000" cy="280440"/>
                <a:chOff x="5313240" y="4526280"/>
                <a:chExt cx="225000" cy="2804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313240" y="471348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313240" y="461952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425560" y="47134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425560" y="45262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5433840" y="454392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6036840" y="4210920"/>
              <a:ext cx="74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low 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41880" y="5738040"/>
              <a:ext cx="70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ast 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4523400" y="2970720"/>
              <a:ext cx="455040" cy="290880"/>
              <a:chOff x="4523400" y="2970720"/>
              <a:chExt cx="455040" cy="2908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4637520" y="3168000"/>
                <a:ext cx="225000" cy="93600"/>
                <a:chOff x="4637520" y="3168000"/>
                <a:chExt cx="225000" cy="936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750560" y="31680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>
                  <a:off x="4637520" y="316800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4523400" y="29707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5369400" y="3776760"/>
              <a:ext cx="444600" cy="374400"/>
              <a:chOff x="5369400" y="3776760"/>
              <a:chExt cx="444600" cy="37440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5369400" y="3776760"/>
                <a:ext cx="112320" cy="374400"/>
                <a:chOff x="5369400" y="3776760"/>
                <a:chExt cx="112320" cy="37440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5369400" y="3821400"/>
                  <a:ext cx="112320" cy="282240"/>
                  <a:chOff x="5369400" y="3821400"/>
                  <a:chExt cx="112320" cy="28224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flipV="1">
                    <a:off x="5369400" y="3821400"/>
                    <a:ext cx="5832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H="1" flipV="1">
                    <a:off x="5369400" y="40330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5369400" y="39859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flipV="1">
                    <a:off x="5369400" y="39394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V="1">
                    <a:off x="5369400" y="389232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 flipV="1">
                    <a:off x="5369400" y="38455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V="1">
                    <a:off x="5423040" y="4079520"/>
                    <a:ext cx="5832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5" name=""/>
                <p:cNvSpPr/>
                <p:nvPr/>
              </p:nvSpPr>
              <p:spPr>
                <a:xfrm>
                  <a:off x="5425560" y="410472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425560" y="377676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5406120" y="382320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694400" y="3776760"/>
              <a:ext cx="444600" cy="374400"/>
              <a:chOff x="4694400" y="3776760"/>
              <a:chExt cx="444600" cy="37440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694400" y="3776760"/>
                <a:ext cx="112320" cy="374400"/>
                <a:chOff x="4694400" y="3776760"/>
                <a:chExt cx="112320" cy="37440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4694400" y="3821400"/>
                  <a:ext cx="112320" cy="282240"/>
                  <a:chOff x="4694400" y="3821400"/>
                  <a:chExt cx="112320" cy="2822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flipV="1">
                    <a:off x="4694400" y="3821400"/>
                    <a:ext cx="5832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694400" y="40330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4694400" y="39859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 flipV="1">
                    <a:off x="4694400" y="39394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4694400" y="389232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flipV="1">
                    <a:off x="4694400" y="38455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V="1">
                    <a:off x="4748040" y="4079520"/>
                    <a:ext cx="5832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4750560" y="410472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750560" y="377676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4731120" y="382320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4019400" y="3776760"/>
              <a:ext cx="443880" cy="374400"/>
              <a:chOff x="4019400" y="3776760"/>
              <a:chExt cx="443880" cy="37440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4019400" y="3776760"/>
                <a:ext cx="112320" cy="374400"/>
                <a:chOff x="4019400" y="3776760"/>
                <a:chExt cx="112320" cy="37440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19400" y="3821400"/>
                  <a:ext cx="112320" cy="282240"/>
                  <a:chOff x="4019400" y="3821400"/>
                  <a:chExt cx="112320" cy="28224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flipV="1">
                    <a:off x="4019400" y="3821400"/>
                    <a:ext cx="5832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019400" y="40330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V="1">
                    <a:off x="4019400" y="39859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19400" y="39394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V="1">
                    <a:off x="4019400" y="389232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flipV="1">
                    <a:off x="4019400" y="38455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V="1">
                    <a:off x="4073040" y="4079520"/>
                    <a:ext cx="5832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4075560" y="410472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075560" y="377676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4055400" y="382320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118680" y="3776760"/>
              <a:ext cx="444600" cy="374400"/>
              <a:chOff x="3118680" y="3776760"/>
              <a:chExt cx="444600" cy="3744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118680" y="3776760"/>
                <a:ext cx="113040" cy="374400"/>
                <a:chOff x="3118680" y="3776760"/>
                <a:chExt cx="113040" cy="37440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3118680" y="3821400"/>
                  <a:ext cx="113040" cy="282240"/>
                  <a:chOff x="3118680" y="3821400"/>
                  <a:chExt cx="113040" cy="28224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flipV="1">
                    <a:off x="3119040" y="3821400"/>
                    <a:ext cx="5868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H="1" flipV="1">
                    <a:off x="3118680" y="4033080"/>
                    <a:ext cx="11268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V="1">
                    <a:off x="3119040" y="3985920"/>
                    <a:ext cx="11268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 flipV="1">
                    <a:off x="3118680" y="3939480"/>
                    <a:ext cx="11268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V="1">
                    <a:off x="3119040" y="3892320"/>
                    <a:ext cx="11268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flipV="1">
                    <a:off x="3118680" y="3845520"/>
                    <a:ext cx="11268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V="1">
                    <a:off x="3172680" y="4079520"/>
                    <a:ext cx="5868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4" name=""/>
                <p:cNvSpPr/>
                <p:nvPr/>
              </p:nvSpPr>
              <p:spPr>
                <a:xfrm>
                  <a:off x="3175200" y="410472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175200" y="377676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>
                <a:off x="3155400" y="382320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 flipV="1">
              <a:off x="4750560" y="36831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425560" y="36831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175560" y="36831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075200" y="326160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4750560" y="326160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5425560" y="326160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4075200" y="48074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2106360" y="4619880"/>
              <a:ext cx="443520" cy="374400"/>
              <a:chOff x="2106360" y="4619880"/>
              <a:chExt cx="443520" cy="37440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2106360" y="4619880"/>
                <a:ext cx="112320" cy="374400"/>
                <a:chOff x="2106360" y="4619880"/>
                <a:chExt cx="112320" cy="37440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2106360" y="4664520"/>
                  <a:ext cx="112320" cy="282240"/>
                  <a:chOff x="2106360" y="4664520"/>
                  <a:chExt cx="112320" cy="28224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flipV="1">
                    <a:off x="2106360" y="4664520"/>
                    <a:ext cx="5832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 flipV="1">
                    <a:off x="2106360" y="487620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V="1">
                    <a:off x="2106360" y="482904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H="1" flipV="1">
                    <a:off x="2106360" y="478260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V="1">
                    <a:off x="2106360" y="473544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flipV="1">
                    <a:off x="2106360" y="468864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>
                    <a:off x="2160000" y="4922640"/>
                    <a:ext cx="5832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4" name=""/>
                <p:cNvSpPr/>
                <p:nvPr/>
              </p:nvSpPr>
              <p:spPr>
                <a:xfrm>
                  <a:off x="2162520" y="494784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162520" y="461988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2142000" y="466632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 flipH="1">
              <a:off x="4075200" y="3261600"/>
              <a:ext cx="135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22480" y="3238200"/>
              <a:ext cx="55800" cy="46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1037520" y="4338720"/>
              <a:ext cx="0" cy="234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037520" y="4994640"/>
              <a:ext cx="0" cy="18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D9E-403E-456F-8E57-E0F97070FAE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ariable gain preamp for PMT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mirror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tioed mirrors on input. Output currents summed and integrated on capacitor (10 p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in adjusted by turning on/off scaled mirrors (3 bit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r input impedance (500 ), similar decay time constant (200 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e following st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57280" y="3047400"/>
            <a:ext cx="5842440" cy="3644280"/>
            <a:chOff x="557280" y="3047400"/>
            <a:chExt cx="5842440" cy="3644280"/>
          </a:xfrm>
        </p:grpSpPr>
        <p:grpSp>
          <p:nvGrpSpPr>
            <p:cNvPr id="336" name=""/>
            <p:cNvGrpSpPr/>
            <p:nvPr/>
          </p:nvGrpSpPr>
          <p:grpSpPr>
            <a:xfrm>
              <a:off x="557280" y="4748760"/>
              <a:ext cx="574200" cy="447120"/>
              <a:chOff x="557280" y="4748760"/>
              <a:chExt cx="574200" cy="44712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968760" y="4748760"/>
                <a:ext cx="162720" cy="447120"/>
                <a:chOff x="968760" y="4748760"/>
                <a:chExt cx="162720" cy="44712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968760" y="4848120"/>
                  <a:ext cx="162720" cy="248400"/>
                  <a:chOff x="968760" y="4848120"/>
                  <a:chExt cx="162720" cy="24840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968760" y="4947480"/>
                    <a:ext cx="162720" cy="149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968760" y="4848120"/>
                    <a:ext cx="162720" cy="149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 flipV="1">
                  <a:off x="1050120" y="5096520"/>
                  <a:ext cx="0" cy="993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1050120" y="4748760"/>
                  <a:ext cx="0" cy="993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 flipV="1">
                <a:off x="887400" y="4773600"/>
                <a:ext cx="0" cy="397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57280" y="4832280"/>
                <a:ext cx="406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I 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2108160" y="37544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836720" y="40028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08160" y="375444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836000" y="3655080"/>
              <a:ext cx="271800" cy="198720"/>
              <a:chOff x="1836000" y="3655080"/>
              <a:chExt cx="271800" cy="198720"/>
            </a:xfrm>
          </p:grpSpPr>
          <p:sp>
            <p:nvSpPr>
              <p:cNvPr id="349" name=""/>
              <p:cNvSpPr/>
              <p:nvPr/>
            </p:nvSpPr>
            <p:spPr>
              <a:xfrm>
                <a:off x="1945080" y="36550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999440" y="3754440"/>
                <a:ext cx="10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99440" y="36550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836000" y="3853800"/>
                <a:ext cx="1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836000" y="3655080"/>
                <a:ext cx="1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2379600" y="3655080"/>
              <a:ext cx="271440" cy="198720"/>
              <a:chOff x="2379600" y="3655080"/>
              <a:chExt cx="271440" cy="19872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2542320" y="38538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2542320" y="36550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488320" y="36550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2542320" y="36550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2379600" y="3753360"/>
                <a:ext cx="1087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 flipH="1">
              <a:off x="2651040" y="4997520"/>
              <a:ext cx="28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81160" y="372960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36720" y="385380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09720" y="3978360"/>
              <a:ext cx="5400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4547160" y="5494320"/>
              <a:ext cx="273600" cy="199080"/>
              <a:chOff x="4547160" y="5494320"/>
              <a:chExt cx="273600" cy="199080"/>
            </a:xfrm>
          </p:grpSpPr>
          <p:sp>
            <p:nvSpPr>
              <p:cNvPr id="365" name=""/>
              <p:cNvSpPr/>
              <p:nvPr/>
            </p:nvSpPr>
            <p:spPr>
              <a:xfrm flipH="1">
                <a:off x="4658040" y="5592960"/>
                <a:ext cx="1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658040" y="5494680"/>
                <a:ext cx="0" cy="19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4547160" y="5643720"/>
                <a:ext cx="11052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flipV="1">
                <a:off x="4549320" y="5494320"/>
                <a:ext cx="10620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2108160" y="42516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728000" y="4500360"/>
              <a:ext cx="38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08160" y="425160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1836000" y="4151880"/>
              <a:ext cx="271800" cy="198720"/>
              <a:chOff x="1836000" y="4151880"/>
              <a:chExt cx="271800" cy="198720"/>
            </a:xfrm>
          </p:grpSpPr>
          <p:sp>
            <p:nvSpPr>
              <p:cNvPr id="373" name=""/>
              <p:cNvSpPr/>
              <p:nvPr/>
            </p:nvSpPr>
            <p:spPr>
              <a:xfrm>
                <a:off x="194508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1999440" y="4251240"/>
                <a:ext cx="10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99944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836000" y="4350600"/>
                <a:ext cx="1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836000" y="4151880"/>
                <a:ext cx="1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2379600" y="4151880"/>
              <a:ext cx="271440" cy="198720"/>
              <a:chOff x="2379600" y="4151880"/>
              <a:chExt cx="271440" cy="198720"/>
            </a:xfrm>
          </p:grpSpPr>
          <p:sp>
            <p:nvSpPr>
              <p:cNvPr id="379" name=""/>
              <p:cNvSpPr/>
              <p:nvPr/>
            </p:nvSpPr>
            <p:spPr>
              <a:xfrm flipH="1">
                <a:off x="2542320" y="43506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2542320" y="41518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24883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25423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2379600" y="4249440"/>
                <a:ext cx="108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2081160" y="42267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51040" y="4350960"/>
              <a:ext cx="0" cy="6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09720" y="4475160"/>
              <a:ext cx="5400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5092920" y="5592960"/>
              <a:ext cx="16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57800" y="5494680"/>
              <a:ext cx="0" cy="19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256000" y="5494680"/>
              <a:ext cx="11052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7800" y="5643720"/>
              <a:ext cx="10872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23640" y="55940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4552200" y="53452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24840" y="5320800"/>
              <a:ext cx="543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23640" y="5345280"/>
              <a:ext cx="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36720" y="435096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2108160" y="4002840"/>
              <a:ext cx="271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81160" y="3978360"/>
              <a:ext cx="543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51040" y="385380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3357360" y="4151880"/>
              <a:ext cx="271440" cy="198720"/>
              <a:chOff x="3357360" y="4151880"/>
              <a:chExt cx="271440" cy="198720"/>
            </a:xfrm>
          </p:grpSpPr>
          <p:sp>
            <p:nvSpPr>
              <p:cNvPr id="400" name=""/>
              <p:cNvSpPr/>
              <p:nvPr/>
            </p:nvSpPr>
            <p:spPr>
              <a:xfrm flipH="1">
                <a:off x="3520080" y="43506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3520080" y="41518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346608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352008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3357360" y="4250160"/>
                <a:ext cx="1087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3357360" y="4649400"/>
              <a:ext cx="271440" cy="198720"/>
              <a:chOff x="3357360" y="4649400"/>
              <a:chExt cx="271440" cy="198720"/>
            </a:xfrm>
          </p:grpSpPr>
          <p:sp>
            <p:nvSpPr>
              <p:cNvPr id="406" name=""/>
              <p:cNvSpPr/>
              <p:nvPr/>
            </p:nvSpPr>
            <p:spPr>
              <a:xfrm flipH="1">
                <a:off x="3520080" y="484812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3520080" y="46494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46608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352008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3357360" y="4746960"/>
                <a:ext cx="108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3628800" y="435096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4280400" y="4151880"/>
              <a:ext cx="271440" cy="198720"/>
              <a:chOff x="4280400" y="4151880"/>
              <a:chExt cx="271440" cy="198720"/>
            </a:xfrm>
          </p:grpSpPr>
          <p:sp>
            <p:nvSpPr>
              <p:cNvPr id="413" name=""/>
              <p:cNvSpPr/>
              <p:nvPr/>
            </p:nvSpPr>
            <p:spPr>
              <a:xfrm flipH="1">
                <a:off x="4443120" y="43506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4443120" y="41518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43891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44431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4280400" y="4250160"/>
                <a:ext cx="1087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4280400" y="4649400"/>
              <a:ext cx="271440" cy="198720"/>
              <a:chOff x="4280400" y="4649400"/>
              <a:chExt cx="271440" cy="19872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4443120" y="484812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4443120" y="46494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438912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444312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4280400" y="4746960"/>
                <a:ext cx="108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4552200" y="435096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5203800" y="4151880"/>
              <a:ext cx="271440" cy="198720"/>
              <a:chOff x="5203800" y="4151880"/>
              <a:chExt cx="271440" cy="198720"/>
            </a:xfrm>
          </p:grpSpPr>
          <p:sp>
            <p:nvSpPr>
              <p:cNvPr id="426" name=""/>
              <p:cNvSpPr/>
              <p:nvPr/>
            </p:nvSpPr>
            <p:spPr>
              <a:xfrm flipH="1">
                <a:off x="5366520" y="43506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5366520" y="41518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53125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53665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5203800" y="4250160"/>
                <a:ext cx="1087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5203800" y="4649400"/>
              <a:ext cx="271440" cy="198720"/>
              <a:chOff x="5203800" y="4649400"/>
              <a:chExt cx="271440" cy="198720"/>
            </a:xfrm>
          </p:grpSpPr>
          <p:sp>
            <p:nvSpPr>
              <p:cNvPr id="432" name=""/>
              <p:cNvSpPr/>
              <p:nvPr/>
            </p:nvSpPr>
            <p:spPr>
              <a:xfrm flipH="1">
                <a:off x="5366520" y="484812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5366520" y="46494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531252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536652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5203800" y="4746960"/>
                <a:ext cx="108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5475240" y="435096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2108160" y="4500360"/>
              <a:ext cx="271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81160" y="44751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2976840" y="4201920"/>
              <a:ext cx="373320" cy="49680"/>
              <a:chOff x="2976840" y="4201920"/>
              <a:chExt cx="373320" cy="49680"/>
            </a:xfrm>
          </p:grpSpPr>
          <p:sp>
            <p:nvSpPr>
              <p:cNvPr id="441" name=""/>
              <p:cNvSpPr/>
              <p:nvPr/>
            </p:nvSpPr>
            <p:spPr>
              <a:xfrm flipV="1">
                <a:off x="3083760" y="4201920"/>
                <a:ext cx="1598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2976840" y="4251600"/>
                <a:ext cx="10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243600" y="4251600"/>
                <a:ext cx="10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3900960" y="4201920"/>
              <a:ext cx="372960" cy="49680"/>
              <a:chOff x="3900960" y="4201920"/>
              <a:chExt cx="372960" cy="49680"/>
            </a:xfrm>
          </p:grpSpPr>
          <p:sp>
            <p:nvSpPr>
              <p:cNvPr id="445" name=""/>
              <p:cNvSpPr/>
              <p:nvPr/>
            </p:nvSpPr>
            <p:spPr>
              <a:xfrm flipV="1">
                <a:off x="4007520" y="4201920"/>
                <a:ext cx="1598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3900960" y="42516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167720" y="42516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4824000" y="4201920"/>
              <a:ext cx="372960" cy="49680"/>
              <a:chOff x="4824000" y="4201920"/>
              <a:chExt cx="372960" cy="49680"/>
            </a:xfrm>
          </p:grpSpPr>
          <p:sp>
            <p:nvSpPr>
              <p:cNvPr id="449" name=""/>
              <p:cNvSpPr/>
              <p:nvPr/>
            </p:nvSpPr>
            <p:spPr>
              <a:xfrm flipV="1">
                <a:off x="4930560" y="4201920"/>
                <a:ext cx="1598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4824000" y="42516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090760" y="42516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976840" y="4698720"/>
              <a:ext cx="373320" cy="49680"/>
              <a:chOff x="2976840" y="4698720"/>
              <a:chExt cx="373320" cy="49680"/>
            </a:xfrm>
          </p:grpSpPr>
          <p:sp>
            <p:nvSpPr>
              <p:cNvPr id="453" name=""/>
              <p:cNvSpPr/>
              <p:nvPr/>
            </p:nvSpPr>
            <p:spPr>
              <a:xfrm flipV="1">
                <a:off x="3083760" y="4698720"/>
                <a:ext cx="1598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2976840" y="4748400"/>
                <a:ext cx="10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243600" y="4748400"/>
                <a:ext cx="10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3900960" y="4698720"/>
              <a:ext cx="372960" cy="49680"/>
              <a:chOff x="3900960" y="4698720"/>
              <a:chExt cx="372960" cy="49680"/>
            </a:xfrm>
          </p:grpSpPr>
          <p:sp>
            <p:nvSpPr>
              <p:cNvPr id="457" name=""/>
              <p:cNvSpPr/>
              <p:nvPr/>
            </p:nvSpPr>
            <p:spPr>
              <a:xfrm flipV="1">
                <a:off x="4007520" y="4698720"/>
                <a:ext cx="1598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3900960" y="47484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167720" y="47484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4824000" y="4698720"/>
              <a:ext cx="372960" cy="49680"/>
              <a:chOff x="4824000" y="4698720"/>
              <a:chExt cx="372960" cy="49680"/>
            </a:xfrm>
          </p:grpSpPr>
          <p:sp>
            <p:nvSpPr>
              <p:cNvPr id="461" name=""/>
              <p:cNvSpPr/>
              <p:nvPr/>
            </p:nvSpPr>
            <p:spPr>
              <a:xfrm flipV="1">
                <a:off x="4930560" y="4698720"/>
                <a:ext cx="1598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4824000" y="47484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90760" y="47484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2977200" y="450036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50200" y="4475160"/>
              <a:ext cx="5400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77200" y="4002840"/>
              <a:ext cx="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50200" y="3978360"/>
              <a:ext cx="5400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00600" y="450036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73240" y="44751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00600" y="4002840"/>
              <a:ext cx="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73240" y="3978360"/>
              <a:ext cx="543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23640" y="450036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23640" y="4002840"/>
              <a:ext cx="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628800" y="484848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52200" y="4848480"/>
              <a:ext cx="0" cy="6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75240" y="484848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01800" y="4972680"/>
              <a:ext cx="5400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24840" y="497268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48240" y="497268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6018480" y="4500360"/>
              <a:ext cx="0" cy="10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6018480" y="3455640"/>
              <a:ext cx="720" cy="6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991120" y="5320800"/>
              <a:ext cx="543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5909760" y="5544360"/>
              <a:ext cx="487080" cy="297720"/>
              <a:chOff x="5909760" y="5544360"/>
              <a:chExt cx="487080" cy="29772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5909760" y="5544360"/>
                <a:ext cx="217080" cy="297720"/>
                <a:chOff x="5909760" y="5544360"/>
                <a:chExt cx="217080" cy="29772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5909760" y="5743080"/>
                  <a:ext cx="21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909760" y="5643360"/>
                  <a:ext cx="21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018120" y="5743080"/>
                  <a:ext cx="0" cy="9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018120" y="5544360"/>
                  <a:ext cx="0" cy="9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>
                <a:off x="6018120" y="555984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4552200" y="569340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66880" y="569340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366880" y="534528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366880" y="5345280"/>
              <a:ext cx="65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963760" y="4102560"/>
              <a:ext cx="108720" cy="397080"/>
              <a:chOff x="5963760" y="4102560"/>
              <a:chExt cx="108720" cy="39708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5963760" y="4150080"/>
                <a:ext cx="108720" cy="299520"/>
                <a:chOff x="5963760" y="4150080"/>
                <a:chExt cx="108720" cy="299520"/>
              </a:xfrm>
            </p:grpSpPr>
            <p:sp>
              <p:nvSpPr>
                <p:cNvPr id="496" name=""/>
                <p:cNvSpPr/>
                <p:nvPr/>
              </p:nvSpPr>
              <p:spPr>
                <a:xfrm flipV="1">
                  <a:off x="5964120" y="4150080"/>
                  <a:ext cx="56520" cy="2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5963760" y="437472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5964120" y="4324680"/>
                  <a:ext cx="108360" cy="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5963760" y="427536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5964120" y="422568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 flipV="1">
                  <a:off x="5963760" y="4175640"/>
                  <a:ext cx="108360" cy="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V="1">
                  <a:off x="6015960" y="4424040"/>
                  <a:ext cx="56520" cy="2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6018120" y="4450320"/>
                <a:ext cx="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18120" y="4102560"/>
                <a:ext cx="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2017080" y="3047400"/>
              <a:ext cx="455040" cy="408240"/>
              <a:chOff x="2017080" y="3047400"/>
              <a:chExt cx="455040" cy="40824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148120" y="3257280"/>
                <a:ext cx="193320" cy="198360"/>
                <a:chOff x="2148120" y="3257280"/>
                <a:chExt cx="193320" cy="198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244960" y="325728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>
                  <a:off x="2148120" y="325728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>
                <a:off x="2017080" y="304740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1836720" y="345600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51040" y="345600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5789880" y="3047400"/>
              <a:ext cx="455040" cy="408240"/>
              <a:chOff x="5789880" y="3047400"/>
              <a:chExt cx="455040" cy="40824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5936760" y="3257280"/>
                <a:ext cx="161640" cy="198360"/>
                <a:chOff x="5936760" y="3257280"/>
                <a:chExt cx="161640" cy="1983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6017760" y="325728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>
                  <a:off x="5936760" y="3257280"/>
                  <a:ext cx="161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5789880" y="304740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 flipV="1">
              <a:off x="4552200" y="3455640"/>
              <a:ext cx="0" cy="69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4321440" y="3047400"/>
              <a:ext cx="455040" cy="408240"/>
              <a:chOff x="4321440" y="3047400"/>
              <a:chExt cx="455040" cy="408240"/>
            </a:xfrm>
          </p:grpSpPr>
          <p:grpSp>
            <p:nvGrpSpPr>
              <p:cNvPr id="519" name=""/>
              <p:cNvGrpSpPr/>
              <p:nvPr/>
            </p:nvGrpSpPr>
            <p:grpSpPr>
              <a:xfrm>
                <a:off x="4469760" y="3257280"/>
                <a:ext cx="161640" cy="198360"/>
                <a:chOff x="4469760" y="3257280"/>
                <a:chExt cx="161640" cy="19836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550760" y="325728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>
                  <a:off x="4469760" y="3257280"/>
                  <a:ext cx="161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>
                <a:off x="4321440" y="304740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 flipV="1">
              <a:off x="5475240" y="3455640"/>
              <a:ext cx="0" cy="69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3628800" y="3455640"/>
              <a:ext cx="0" cy="69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3628440" y="3456000"/>
              <a:ext cx="18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524840" y="34311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1836720" y="3456000"/>
              <a:ext cx="81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16880" y="34311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5855040" y="6041880"/>
              <a:ext cx="274680" cy="199440"/>
              <a:chOff x="5855040" y="6041880"/>
              <a:chExt cx="274680" cy="199440"/>
            </a:xfrm>
          </p:grpSpPr>
          <p:sp>
            <p:nvSpPr>
              <p:cNvPr id="530" name=""/>
              <p:cNvSpPr/>
              <p:nvPr/>
            </p:nvSpPr>
            <p:spPr>
              <a:xfrm>
                <a:off x="5909400" y="6141240"/>
                <a:ext cx="21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5855040" y="6141240"/>
                <a:ext cx="5508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5964480" y="6141240"/>
                <a:ext cx="5508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6074280" y="6141240"/>
                <a:ext cx="5544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6018120" y="6041880"/>
                <a:ext cx="0" cy="9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4752720" y="6290280"/>
              <a:ext cx="412200" cy="401400"/>
              <a:chOff x="4752720" y="6290280"/>
              <a:chExt cx="412200" cy="401400"/>
            </a:xfrm>
          </p:grpSpPr>
          <p:sp>
            <p:nvSpPr>
              <p:cNvPr id="536" name=""/>
              <p:cNvSpPr/>
              <p:nvPr/>
            </p:nvSpPr>
            <p:spPr>
              <a:xfrm>
                <a:off x="4752720" y="644544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4851360" y="6290280"/>
                <a:ext cx="217080" cy="198720"/>
                <a:chOff x="4851360" y="6290280"/>
                <a:chExt cx="217080" cy="198720"/>
              </a:xfrm>
            </p:grpSpPr>
            <p:sp>
              <p:nvSpPr>
                <p:cNvPr id="538" name=""/>
                <p:cNvSpPr/>
                <p:nvPr/>
              </p:nvSpPr>
              <p:spPr>
                <a:xfrm flipH="1">
                  <a:off x="4851360" y="6489000"/>
                  <a:ext cx="21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V="1">
                  <a:off x="4957920" y="6290280"/>
                  <a:ext cx="0" cy="198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0" name=""/>
            <p:cNvSpPr/>
            <p:nvPr/>
          </p:nvSpPr>
          <p:spPr>
            <a:xfrm>
              <a:off x="6018480" y="584280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552200" y="6290280"/>
              <a:ext cx="81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32000" y="626544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52200" y="619092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66880" y="619092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4497480" y="5793120"/>
              <a:ext cx="404640" cy="397440"/>
              <a:chOff x="4497480" y="5793120"/>
              <a:chExt cx="404640" cy="39744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4497480" y="5793120"/>
                <a:ext cx="108720" cy="397440"/>
                <a:chOff x="4497480" y="5793120"/>
                <a:chExt cx="108720" cy="397440"/>
              </a:xfrm>
            </p:grpSpPr>
            <p:grpSp>
              <p:nvGrpSpPr>
                <p:cNvPr id="547" name=""/>
                <p:cNvGrpSpPr/>
                <p:nvPr/>
              </p:nvGrpSpPr>
              <p:grpSpPr>
                <a:xfrm>
                  <a:off x="4497480" y="5840640"/>
                  <a:ext cx="108720" cy="299880"/>
                  <a:chOff x="4497480" y="5840640"/>
                  <a:chExt cx="108720" cy="29988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 flipV="1">
                    <a:off x="4497840" y="5840640"/>
                    <a:ext cx="56520" cy="25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flipH="1" flipV="1">
                    <a:off x="4497480" y="6065640"/>
                    <a:ext cx="108360" cy="49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V="1">
                    <a:off x="4497840" y="6015600"/>
                    <a:ext cx="108360" cy="4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 flipV="1">
                    <a:off x="4497480" y="5965920"/>
                    <a:ext cx="108360" cy="49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V="1">
                    <a:off x="4497840" y="5916240"/>
                    <a:ext cx="108360" cy="49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 flipV="1">
                    <a:off x="4497480" y="5866200"/>
                    <a:ext cx="108360" cy="4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V="1">
                    <a:off x="4549680" y="6114960"/>
                    <a:ext cx="56520" cy="2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5" name=""/>
                <p:cNvSpPr/>
                <p:nvPr/>
              </p:nvSpPr>
              <p:spPr>
                <a:xfrm>
                  <a:off x="4551840" y="614124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551840" y="5793120"/>
                  <a:ext cx="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4558320" y="5849280"/>
                <a:ext cx="34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5312160" y="5793120"/>
              <a:ext cx="108720" cy="397440"/>
              <a:chOff x="5312160" y="5793120"/>
              <a:chExt cx="108720" cy="39744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5312160" y="5840640"/>
                <a:ext cx="108720" cy="299880"/>
                <a:chOff x="5312160" y="5840640"/>
                <a:chExt cx="108720" cy="299880"/>
              </a:xfrm>
            </p:grpSpPr>
            <p:sp>
              <p:nvSpPr>
                <p:cNvPr id="560" name=""/>
                <p:cNvSpPr/>
                <p:nvPr/>
              </p:nvSpPr>
              <p:spPr>
                <a:xfrm flipV="1">
                  <a:off x="5312520" y="5840640"/>
                  <a:ext cx="56520" cy="2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 flipV="1">
                  <a:off x="5312160" y="606564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V="1">
                  <a:off x="5312520" y="6015600"/>
                  <a:ext cx="108360" cy="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H="1" flipV="1">
                  <a:off x="5312160" y="596592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V="1">
                  <a:off x="5312520" y="591624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 flipV="1">
                  <a:off x="5312160" y="5866200"/>
                  <a:ext cx="108360" cy="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V="1">
                  <a:off x="5364360" y="6114960"/>
                  <a:ext cx="56520" cy="2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5366520" y="6141240"/>
                <a:ext cx="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366520" y="5793120"/>
                <a:ext cx="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5371200" y="584928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91840" y="41587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0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64600" y="39999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64600" y="449604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87640" y="39999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87640" y="449604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12120" y="39999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812120" y="449604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96280" y="556920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23520" y="358956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85800" y="358956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04080" y="408600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36560" y="408600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36640" y="407664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514680" y="458496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60400" y="407664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36640" y="458496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82720" y="407664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61120" y="458496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1213200" y="5395320"/>
              <a:ext cx="274320" cy="199800"/>
              <a:chOff x="1213200" y="5395320"/>
              <a:chExt cx="274320" cy="199800"/>
            </a:xfrm>
          </p:grpSpPr>
          <p:sp>
            <p:nvSpPr>
              <p:cNvPr id="589" name=""/>
              <p:cNvSpPr/>
              <p:nvPr/>
            </p:nvSpPr>
            <p:spPr>
              <a:xfrm>
                <a:off x="1267560" y="5494680"/>
                <a:ext cx="2170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1213200" y="5494680"/>
                <a:ext cx="55080" cy="10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1322640" y="5494680"/>
                <a:ext cx="55080" cy="10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1432440" y="5494680"/>
                <a:ext cx="55080" cy="10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1376280" y="5395320"/>
                <a:ext cx="0" cy="99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887040" y="5395320"/>
              <a:ext cx="274320" cy="199440"/>
              <a:chOff x="887040" y="5395320"/>
              <a:chExt cx="274320" cy="199440"/>
            </a:xfrm>
          </p:grpSpPr>
          <p:sp>
            <p:nvSpPr>
              <p:cNvPr id="595" name=""/>
              <p:cNvSpPr/>
              <p:nvPr/>
            </p:nvSpPr>
            <p:spPr>
              <a:xfrm flipH="1">
                <a:off x="887040" y="5494680"/>
                <a:ext cx="55080" cy="100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996480" y="5494680"/>
                <a:ext cx="55080" cy="100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1106280" y="5494680"/>
                <a:ext cx="55080" cy="100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941400" y="5494680"/>
                <a:ext cx="2170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1050120" y="5395320"/>
                <a:ext cx="0" cy="99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 flipV="1">
              <a:off x="1376280" y="5096880"/>
              <a:ext cx="0" cy="298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1376280" y="4500000"/>
              <a:ext cx="0" cy="348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50480" y="4500360"/>
              <a:ext cx="6516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349280" y="4475160"/>
              <a:ext cx="54360" cy="4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1267560" y="4816080"/>
              <a:ext cx="649080" cy="297720"/>
              <a:chOff x="1267560" y="4816080"/>
              <a:chExt cx="649080" cy="29772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1267560" y="4816080"/>
                <a:ext cx="216720" cy="297720"/>
                <a:chOff x="1267560" y="4816080"/>
                <a:chExt cx="216720" cy="29772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1267560" y="5014800"/>
                  <a:ext cx="2167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267560" y="4915080"/>
                  <a:ext cx="2167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375560" y="5014800"/>
                  <a:ext cx="0" cy="990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375560" y="4816080"/>
                  <a:ext cx="0" cy="990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1350360" y="482616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C 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 flipV="1">
              <a:off x="1050480" y="4500360"/>
              <a:ext cx="0" cy="248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1050480" y="5196240"/>
              <a:ext cx="0" cy="19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18480" y="499752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91120" y="497268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558-B7C9-4695-88CD-3BF2791102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ast and slow shapers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ple CR RC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ow shaper : t = 100 ns  G ~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shaper : t = 10 ns  G ~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current taken from integrating capacitor -&gt; area re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730800" y="3199320"/>
            <a:ext cx="6353280" cy="2493000"/>
            <a:chOff x="730800" y="3199320"/>
            <a:chExt cx="6353280" cy="2493000"/>
          </a:xfrm>
        </p:grpSpPr>
        <p:sp>
          <p:nvSpPr>
            <p:cNvPr id="620" name=""/>
            <p:cNvSpPr/>
            <p:nvPr/>
          </p:nvSpPr>
          <p:spPr>
            <a:xfrm>
              <a:off x="1293480" y="3438000"/>
              <a:ext cx="1625040" cy="165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1061280" y="4082040"/>
              <a:ext cx="1508760" cy="367920"/>
              <a:chOff x="1061280" y="4082040"/>
              <a:chExt cx="1508760" cy="367920"/>
            </a:xfrm>
          </p:grpSpPr>
          <p:sp>
            <p:nvSpPr>
              <p:cNvPr id="622" name=""/>
              <p:cNvSpPr/>
              <p:nvPr/>
            </p:nvSpPr>
            <p:spPr>
              <a:xfrm>
                <a:off x="1061280" y="4266000"/>
                <a:ext cx="46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105640" y="4266000"/>
                <a:ext cx="46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 rot="16200000">
                <a:off x="1630800" y="3975840"/>
                <a:ext cx="367920" cy="579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Preamp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4311720" y="4082040"/>
              <a:ext cx="1508400" cy="367920"/>
              <a:chOff x="4311720" y="4082040"/>
              <a:chExt cx="1508400" cy="367920"/>
            </a:xfrm>
          </p:grpSpPr>
          <p:sp>
            <p:nvSpPr>
              <p:cNvPr id="626" name=""/>
              <p:cNvSpPr/>
              <p:nvPr/>
            </p:nvSpPr>
            <p:spPr>
              <a:xfrm>
                <a:off x="4311720" y="4266000"/>
                <a:ext cx="46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356080" y="4266000"/>
                <a:ext cx="46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 rot="16200000">
                <a:off x="4880880" y="3975840"/>
                <a:ext cx="367920" cy="579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Slo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Shap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3267000" y="4726440"/>
              <a:ext cx="1508400" cy="367920"/>
              <a:chOff x="3267000" y="4726440"/>
              <a:chExt cx="1508400" cy="367920"/>
            </a:xfrm>
          </p:grpSpPr>
          <p:sp>
            <p:nvSpPr>
              <p:cNvPr id="630" name=""/>
              <p:cNvSpPr/>
              <p:nvPr/>
            </p:nvSpPr>
            <p:spPr>
              <a:xfrm>
                <a:off x="3267000" y="4910400"/>
                <a:ext cx="46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311360" y="4910400"/>
                <a:ext cx="46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 rot="16200000">
                <a:off x="3836160" y="4620240"/>
                <a:ext cx="367920" cy="579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Fa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Shap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2454120" y="4450320"/>
              <a:ext cx="232200" cy="275760"/>
              <a:chOff x="2454120" y="4450320"/>
              <a:chExt cx="232200" cy="275760"/>
            </a:xfrm>
          </p:grpSpPr>
          <p:sp>
            <p:nvSpPr>
              <p:cNvPr id="634" name=""/>
              <p:cNvSpPr/>
              <p:nvPr/>
            </p:nvSpPr>
            <p:spPr>
              <a:xfrm>
                <a:off x="2454120" y="4634280"/>
                <a:ext cx="23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454120" y="4542120"/>
                <a:ext cx="23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570040" y="4634280"/>
                <a:ext cx="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570040" y="4450320"/>
                <a:ext cx="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2512080" y="3713760"/>
              <a:ext cx="115920" cy="367560"/>
              <a:chOff x="2512080" y="3713760"/>
              <a:chExt cx="115920" cy="36756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2512080" y="3757320"/>
                <a:ext cx="115920" cy="277920"/>
                <a:chOff x="2512080" y="3757320"/>
                <a:chExt cx="115920" cy="277920"/>
              </a:xfrm>
            </p:grpSpPr>
            <p:sp>
              <p:nvSpPr>
                <p:cNvPr id="640" name=""/>
                <p:cNvSpPr/>
                <p:nvPr/>
              </p:nvSpPr>
              <p:spPr>
                <a:xfrm flipV="1">
                  <a:off x="2512080" y="3757320"/>
                  <a:ext cx="60120" cy="2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 flipV="1">
                  <a:off x="2512080" y="3965400"/>
                  <a:ext cx="11592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V="1">
                  <a:off x="2512080" y="3919320"/>
                  <a:ext cx="115920" cy="4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H="1" flipV="1">
                  <a:off x="2512080" y="3873600"/>
                  <a:ext cx="11592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V="1">
                  <a:off x="2512080" y="3827520"/>
                  <a:ext cx="11592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 flipV="1">
                  <a:off x="2512080" y="3781440"/>
                  <a:ext cx="115920" cy="4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V="1">
                  <a:off x="2567520" y="4011480"/>
                  <a:ext cx="60120" cy="2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2570040" y="403560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570040" y="371376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4891680" y="3437640"/>
              <a:ext cx="348120" cy="183960"/>
              <a:chOff x="4891680" y="3437640"/>
              <a:chExt cx="348120" cy="183960"/>
            </a:xfrm>
          </p:grpSpPr>
          <p:sp>
            <p:nvSpPr>
              <p:cNvPr id="650" name=""/>
              <p:cNvSpPr/>
              <p:nvPr/>
            </p:nvSpPr>
            <p:spPr>
              <a:xfrm flipV="1">
                <a:off x="5123880" y="3437640"/>
                <a:ext cx="0" cy="18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5007600" y="3437640"/>
                <a:ext cx="0" cy="18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123880" y="3529800"/>
                <a:ext cx="11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891680" y="3529800"/>
                <a:ext cx="11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 flipH="1">
              <a:off x="2570040" y="4266000"/>
              <a:ext cx="46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3846960" y="4266000"/>
              <a:ext cx="46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5588280" y="3530160"/>
              <a:ext cx="0" cy="73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43560" y="3530160"/>
              <a:ext cx="3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43560" y="3898080"/>
              <a:ext cx="29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240160" y="3530160"/>
              <a:ext cx="3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98120" y="3898080"/>
              <a:ext cx="28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543560" y="3530160"/>
              <a:ext cx="0" cy="73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4543560" y="4910400"/>
              <a:ext cx="0" cy="73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498840" y="5278680"/>
              <a:ext cx="3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98840" y="5646600"/>
              <a:ext cx="29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95440" y="5278680"/>
              <a:ext cx="3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253400" y="5646600"/>
              <a:ext cx="28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498840" y="4910400"/>
              <a:ext cx="0" cy="73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2570400" y="4082040"/>
              <a:ext cx="0" cy="36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2570400" y="4910400"/>
              <a:ext cx="6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2570400" y="4726080"/>
              <a:ext cx="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775760" y="4910400"/>
              <a:ext cx="127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20480" y="4266000"/>
              <a:ext cx="23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41240" y="4243320"/>
              <a:ext cx="5796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514760" y="4243320"/>
              <a:ext cx="5760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559480" y="4243320"/>
              <a:ext cx="5760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514760" y="488736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470040" y="488736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470040" y="525564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14760" y="525564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14760" y="387504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59480" y="387504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3019680" y="3978360"/>
              <a:ext cx="378720" cy="379080"/>
              <a:chOff x="3019680" y="3978360"/>
              <a:chExt cx="378720" cy="37908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3034440" y="4173480"/>
                <a:ext cx="347400" cy="183960"/>
                <a:chOff x="3034440" y="4173480"/>
                <a:chExt cx="347400" cy="183960"/>
              </a:xfrm>
            </p:grpSpPr>
            <p:sp>
              <p:nvSpPr>
                <p:cNvPr id="684" name=""/>
                <p:cNvSpPr/>
                <p:nvPr/>
              </p:nvSpPr>
              <p:spPr>
                <a:xfrm flipV="1">
                  <a:off x="3266280" y="4173480"/>
                  <a:ext cx="0" cy="18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>
                  <a:off x="3150000" y="4173480"/>
                  <a:ext cx="0" cy="18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266280" y="4265640"/>
                  <a:ext cx="11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034440" y="4265640"/>
                  <a:ext cx="11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8" name=""/>
              <p:cNvSpPr/>
              <p:nvPr/>
            </p:nvSpPr>
            <p:spPr>
              <a:xfrm>
                <a:off x="3019680" y="397836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3382920" y="4023360"/>
              <a:ext cx="463680" cy="288360"/>
              <a:chOff x="3382920" y="4023360"/>
              <a:chExt cx="463680" cy="288360"/>
            </a:xfrm>
          </p:grpSpPr>
          <p:grpSp>
            <p:nvGrpSpPr>
              <p:cNvPr id="690" name=""/>
              <p:cNvGrpSpPr/>
              <p:nvPr/>
            </p:nvGrpSpPr>
            <p:grpSpPr>
              <a:xfrm>
                <a:off x="3382920" y="4219560"/>
                <a:ext cx="463680" cy="92160"/>
                <a:chOff x="3382920" y="4219560"/>
                <a:chExt cx="463680" cy="92160"/>
              </a:xfrm>
            </p:grpSpPr>
            <p:grpSp>
              <p:nvGrpSpPr>
                <p:cNvPr id="691" name=""/>
                <p:cNvGrpSpPr/>
                <p:nvPr/>
              </p:nvGrpSpPr>
              <p:grpSpPr>
                <a:xfrm>
                  <a:off x="3438360" y="4219560"/>
                  <a:ext cx="349560" cy="92160"/>
                  <a:chOff x="3438360" y="4219560"/>
                  <a:chExt cx="349560" cy="9216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 flipH="1" flipV="1">
                    <a:off x="3438360" y="4263480"/>
                    <a:ext cx="3024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H="1">
                    <a:off x="3700080" y="421992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 flipV="1">
                    <a:off x="3642480" y="4219560"/>
                    <a:ext cx="5760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H="1">
                    <a:off x="3584160" y="421992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 flipV="1">
                    <a:off x="3526200" y="421956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>
                    <a:off x="3468600" y="4219920"/>
                    <a:ext cx="5760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flipH="1" flipV="1">
                    <a:off x="3758040" y="4219560"/>
                    <a:ext cx="2988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9" name=""/>
                <p:cNvSpPr/>
                <p:nvPr/>
              </p:nvSpPr>
              <p:spPr>
                <a:xfrm>
                  <a:off x="3789000" y="4265640"/>
                  <a:ext cx="57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382920" y="4265640"/>
                  <a:ext cx="57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3411720" y="402336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4907880" y="3242520"/>
              <a:ext cx="315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4830840" y="3656520"/>
              <a:ext cx="471960" cy="287280"/>
              <a:chOff x="4830840" y="3656520"/>
              <a:chExt cx="471960" cy="28728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4833720" y="3851640"/>
                <a:ext cx="463320" cy="92160"/>
                <a:chOff x="4833720" y="3851640"/>
                <a:chExt cx="463320" cy="9216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4889160" y="3851640"/>
                  <a:ext cx="349560" cy="92160"/>
                  <a:chOff x="4889160" y="3851640"/>
                  <a:chExt cx="349560" cy="9216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 flipH="1" flipV="1">
                    <a:off x="4889160" y="3895920"/>
                    <a:ext cx="3024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flipH="1">
                    <a:off x="5150880" y="3851640"/>
                    <a:ext cx="579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 flipH="1" flipV="1">
                    <a:off x="5093280" y="3851640"/>
                    <a:ext cx="5760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H="1">
                    <a:off x="5034960" y="3851640"/>
                    <a:ext cx="579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H="1" flipV="1">
                    <a:off x="4977000" y="3851640"/>
                    <a:ext cx="579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flipH="1">
                    <a:off x="4919400" y="3851640"/>
                    <a:ext cx="5760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H="1" flipV="1">
                    <a:off x="5208840" y="3852000"/>
                    <a:ext cx="2988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3" name=""/>
                <p:cNvSpPr/>
                <p:nvPr/>
              </p:nvSpPr>
              <p:spPr>
                <a:xfrm>
                  <a:off x="5239440" y="3897720"/>
                  <a:ext cx="57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833720" y="3897720"/>
                  <a:ext cx="57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5" name=""/>
              <p:cNvSpPr/>
              <p:nvPr/>
            </p:nvSpPr>
            <p:spPr>
              <a:xfrm>
                <a:off x="4830840" y="3656520"/>
                <a:ext cx="47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3784680" y="5403960"/>
              <a:ext cx="471960" cy="288360"/>
              <a:chOff x="3784680" y="5403960"/>
              <a:chExt cx="471960" cy="288360"/>
            </a:xfrm>
          </p:grpSpPr>
          <p:grpSp>
            <p:nvGrpSpPr>
              <p:cNvPr id="717" name=""/>
              <p:cNvGrpSpPr/>
              <p:nvPr/>
            </p:nvGrpSpPr>
            <p:grpSpPr>
              <a:xfrm>
                <a:off x="3789000" y="5600160"/>
                <a:ext cx="463680" cy="92160"/>
                <a:chOff x="3789000" y="5600160"/>
                <a:chExt cx="463680" cy="92160"/>
              </a:xfrm>
            </p:grpSpPr>
            <p:grpSp>
              <p:nvGrpSpPr>
                <p:cNvPr id="718" name=""/>
                <p:cNvGrpSpPr/>
                <p:nvPr/>
              </p:nvGrpSpPr>
              <p:grpSpPr>
                <a:xfrm>
                  <a:off x="3844440" y="5600160"/>
                  <a:ext cx="349560" cy="92160"/>
                  <a:chOff x="3844440" y="5600160"/>
                  <a:chExt cx="349560" cy="9216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 flipH="1" flipV="1">
                    <a:off x="3844440" y="5644080"/>
                    <a:ext cx="3024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flipH="1">
                    <a:off x="4106160" y="560052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 flipH="1" flipV="1">
                    <a:off x="4048560" y="5600160"/>
                    <a:ext cx="5760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flipH="1">
                    <a:off x="3990240" y="560052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H="1" flipV="1">
                    <a:off x="3932280" y="560016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H="1">
                    <a:off x="3874680" y="5600520"/>
                    <a:ext cx="5760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 flipV="1">
                    <a:off x="4164120" y="5600160"/>
                    <a:ext cx="2988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6" name=""/>
                <p:cNvSpPr/>
                <p:nvPr/>
              </p:nvSpPr>
              <p:spPr>
                <a:xfrm>
                  <a:off x="4195080" y="5646240"/>
                  <a:ext cx="57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789000" y="5646240"/>
                  <a:ext cx="57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"/>
              <p:cNvSpPr/>
              <p:nvPr/>
            </p:nvSpPr>
            <p:spPr>
              <a:xfrm>
                <a:off x="3784680" y="5403960"/>
                <a:ext cx="47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3814200" y="4990320"/>
              <a:ext cx="415440" cy="379800"/>
              <a:chOff x="3814200" y="4990320"/>
              <a:chExt cx="415440" cy="379800"/>
            </a:xfrm>
          </p:grpSpPr>
          <p:grpSp>
            <p:nvGrpSpPr>
              <p:cNvPr id="730" name=""/>
              <p:cNvGrpSpPr/>
              <p:nvPr/>
            </p:nvGrpSpPr>
            <p:grpSpPr>
              <a:xfrm>
                <a:off x="3846960" y="5186520"/>
                <a:ext cx="348120" cy="183600"/>
                <a:chOff x="3846960" y="5186520"/>
                <a:chExt cx="348120" cy="183600"/>
              </a:xfrm>
            </p:grpSpPr>
            <p:sp>
              <p:nvSpPr>
                <p:cNvPr id="731" name=""/>
                <p:cNvSpPr/>
                <p:nvPr/>
              </p:nvSpPr>
              <p:spPr>
                <a:xfrm flipV="1">
                  <a:off x="4079160" y="5186520"/>
                  <a:ext cx="0" cy="18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3962880" y="5186520"/>
                  <a:ext cx="0" cy="18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079160" y="5278680"/>
                  <a:ext cx="115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46960" y="5278680"/>
                  <a:ext cx="115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3814200" y="4990320"/>
                <a:ext cx="41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0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2239920" y="375804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09680" y="446652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2343960" y="3435840"/>
              <a:ext cx="455040" cy="287280"/>
              <a:chOff x="2343960" y="3435840"/>
              <a:chExt cx="455040" cy="287280"/>
            </a:xfrm>
          </p:grpSpPr>
          <p:sp>
            <p:nvSpPr>
              <p:cNvPr id="739" name=""/>
              <p:cNvSpPr/>
              <p:nvPr/>
            </p:nvSpPr>
            <p:spPr>
              <a:xfrm>
                <a:off x="2571480" y="3631320"/>
                <a:ext cx="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2467440" y="3631320"/>
                <a:ext cx="20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343960" y="343584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730800" y="4137480"/>
              <a:ext cx="34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898600" y="4120200"/>
              <a:ext cx="1175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harge 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91400" y="4763160"/>
              <a:ext cx="119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igger 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12280" y="319932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Preamplifier bl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DEF-D167-4B3E-824C-1D009848AE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urrent mirror performance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lly funct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in adjustment : 1.25*1.33*1.5 = 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ow shaper : tp = 60 ns  G  = 34 mV/p.e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oise : 60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V  ; S/N =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shaper : tp = 12 ns  G = 208 mV/p.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ity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% up to 80 photoelectrons. Dynamic range :  5000 = 12 bi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4316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FIG6" descr=""/>
          <p:cNvPicPr/>
          <p:nvPr/>
        </p:nvPicPr>
        <p:blipFill>
          <a:blip r:embed="rId1"/>
          <a:stretch/>
        </p:blipFill>
        <p:spPr>
          <a:xfrm>
            <a:off x="142920" y="2828880"/>
            <a:ext cx="4657680" cy="34956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FIG7BIS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4496040" cy="337212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2055240" y="341316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 MIP = 6 p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102640" y="557676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low shaper : Residuals of linear 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105520" y="3581280"/>
            <a:ext cx="342900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105520" y="4495680"/>
            <a:ext cx="342900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161760" y="44578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± 0.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39760" y="525780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1/2 photelec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918-4A9C-4AC8-B652-671C5B9BA5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mmon base performance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lly funct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scillations between neighbours : 10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ecessary in emi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in adjustment : 1-4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and slow shaper similar to current mirror vers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ity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% up to 90 photoelectrons. Dynamic range : 10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24316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5280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FIG12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552920" cy="341496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FIG13BIS" descr=""/>
          <p:cNvPicPr/>
          <p:nvPr/>
        </p:nvPicPr>
        <p:blipFill>
          <a:blip r:embed="rId2"/>
          <a:stretch/>
        </p:blipFill>
        <p:spPr>
          <a:xfrm>
            <a:off x="4572000" y="29908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5102640" y="556272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low shaper : Residuals of linear 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105520" y="3733920"/>
            <a:ext cx="342900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105520" y="4267080"/>
            <a:ext cx="342900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225480" y="4205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± 0.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828800" y="31240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reamp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994-40D4-4987-9AF3-3427307876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ise performance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ise in photoelectrons with variable sh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tter performance at fast shaping for the common 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ise dominated by parallel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4316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15280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457200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8C6-1FBB-47D3-A07B-95D56C3DF6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3178080" cy="4114800"/>
          </a:xfrm>
          <a:prstGeom prst="rect">
            <a:avLst/>
          </a:prstGeom>
          <a:ln w="0">
            <a:noFill/>
          </a:ln>
        </p:spPr>
      </p:pic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ront-end chip for HPD 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te front-end chip,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16 inputs, 1 trigger + 1 multiplexed 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low noi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harge preamplifier (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.25 p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shaper (75ns) for 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auto-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ow shaper (500 ns) for accurate charge measurement (minimum noi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chip track and hold and output 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synoptic2" descr=""/>
          <p:cNvPicPr/>
          <p:nvPr/>
        </p:nvPicPr>
        <p:blipFill>
          <a:blip r:embed="rId2"/>
          <a:stretch/>
        </p:blipFill>
        <p:spPr>
          <a:xfrm>
            <a:off x="228600" y="2924280"/>
            <a:ext cx="5543640" cy="37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9497-8068-45D4-836C-FDD8B2306D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easurement results (I)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amplif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 channel with preamp output accessible, followed by variable sha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amplifier gain : 1.8 mV/p.e.  (1 p.e. = 3000 e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se time : 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90 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agreement with simulation, except for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6766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SIGPACN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226520" y="329076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reamp output  Qin=10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6326280" y="2133720"/>
            <a:ext cx="19796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EF2F-E11D-48F2-B582-478C5C1D4C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6T11:37:33Z</dcterms:created>
  <dc:creator>CdLT</dc:creator>
  <dc:description/>
  <dc:language>en-US</dc:language>
  <cp:lastModifiedBy>J.E Campagne</cp:lastModifiedBy>
  <cp:lastPrinted>2000-09-07T15:05:17Z</cp:lastPrinted>
  <dcterms:modified xsi:type="dcterms:W3CDTF">2005-04-08T12:37:52Z</dcterms:modified>
  <cp:revision>89</cp:revision>
  <dc:subject/>
  <dc:title>LAr Status report  2001</dc:title>
</cp:coreProperties>
</file>